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arrow.wav" ContentType="audio/x-wav"/>
  <Override PartName="/ppt/media/breez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23A-99A2-4A37-B1AE-5080C793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561-B4A3-4B39-B73C-77539B44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A077-32F7-4BB0-BB5C-68BA3C49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3F9-AF01-49DC-8663-DD96C522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32F-693F-421F-B73A-4338F487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D67-C7A9-4B72-A10B-27478EEE1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2B2-DE1D-41B7-8595-1DABAC97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4D0-0916-4BF2-8A48-221616E3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B87-EB4A-46B7-A6BA-E3698BE9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7A6-CE55-4EF5-8995-2312AA77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A4D-87DD-46B9-8951-D63C0B20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2890-DB0E-4646-BCC2-EDD302BA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E35-4A08-4878-BE67-28C2AE15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91C-46C8-402E-888A-A6D0949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15A-B6C9-4BD4-BBF7-095845C3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61B-3078-42C4-9535-0256BA4E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1C7-DC98-4B83-83DB-EBB2FA8D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B1F3-2BF6-4F83-A1F6-8181067F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0AF-8BAE-4655-9E99-C1F48BD4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B54-DA0D-4BE9-83F1-9DBAE81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EB52-32DF-475C-ACF2-091A696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523-BA07-4F4B-99F7-B46B43E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97A5-754E-4D4E-889D-FF5F13D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428-77F7-4D3B-8147-131B5FC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D5D8-18A2-4E89-BF0F-A5E0A54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B03-691C-46DD-935A-8AB26CC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E621-2CE1-42F7-BCFD-CB8FC35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B662-25ED-4761-9BED-9EBD4E3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E6A9-89A5-4AB0-93EB-7B6865C6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DE05-3636-466E-89A0-EC5A513C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59EA-6AAE-473F-A953-0E9A001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AE83-A8AB-4FC0-915A-10B2C2F7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94AA-1CB5-4496-A54A-E953D3B6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6F77-F300-4F5B-9527-BE3ACF3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5C0-A71F-47CF-9B52-83DF1DC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9F87-ECB1-4DC9-98DB-10A5983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1EE8-1C95-432F-AAFC-76585E3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0990-72A2-489B-81DE-4BBAB7F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C026-CC66-4572-A128-6E2CB0D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31C9-6E91-4346-86FF-F476004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A9A4-52B3-46B9-BABE-3D1A199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21F2-A4A1-44D4-B459-A9F111C1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44E-3F5E-49E4-A5C2-63BC935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EBD-D84A-477F-AD2A-28579B8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F85-1594-48BB-B40B-520172A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8E7-2A61-4E76-87E9-9654416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333-4AA9-420E-A743-EB51F1D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0A4-48AC-46D3-A328-68F2676D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733-001A-44D6-8EA4-9BF06CFB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19C4-34CE-40E6-A95D-03E7CCBE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008-775F-4BB5-AD2C-8FD2C48D6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Team Competitio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: The first team to write the correct answer gets to pick a group to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 may only pick groups of equal or smaller size until instructed otherw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ion is demanded, help your team dominate your fo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l.yimg.com/g/images/spaceball.gif"/>
          <p:cNvPicPr/>
          <p:nvPr/>
        </p:nvPicPr>
        <p:blipFill>
          <a:blip r:embed="rId1"/>
          <a:stretch/>
        </p:blipFill>
        <p:spPr>
          <a:xfrm>
            <a:off x="4138560" y="-1736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Video Question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239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ype of Imperialism is it? Proof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happening in Afric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lonel Patterson’s job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settlement and the work force lik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the British wa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problems facing the settlem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y Europeans? Why Africa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at 3:18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at drove European desires for Afric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ER: Nineteenth century European imperialism of Africa succeeded becau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8cc"/>
                </a:solidFill>
                <a:latin typeface="Arial Black"/>
              </a:rPr>
              <a:t>D. Reasons for European succes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eapon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New Invention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, Steam engine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akness of non-Western states: Lacked unity, wa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entralized government (competi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vickers%20MKI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1673"/>
          <p:cNvPicPr/>
          <p:nvPr/>
        </p:nvPicPr>
        <p:blipFill>
          <a:blip r:embed="rId2"/>
          <a:stretch/>
        </p:blipFill>
        <p:spPr>
          <a:xfrm>
            <a:off x="5686560" y="2743200"/>
            <a:ext cx="3457440" cy="15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8cc"/>
                </a:solidFill>
                <a:latin typeface="Arial Black"/>
              </a:rPr>
              <a:t>Explain the quote:</a:t>
            </a:r>
            <a:br>
              <a:rPr sz="4000"/>
            </a:br>
            <a:endParaRPr b="0" lang="en-US" sz="4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IMG_0813"/>
          <p:cNvPicPr/>
          <p:nvPr/>
        </p:nvPicPr>
        <p:blipFill>
          <a:blip r:embed="rId1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y7syo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Red= British Empire during Age of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64" name="Picture 7" descr="The_British_Empire"/>
          <p:cNvPicPr/>
          <p:nvPr/>
        </p:nvPicPr>
        <p:blipFill>
          <a:blip r:embed="rId1"/>
          <a:stretch/>
        </p:blipFill>
        <p:spPr>
          <a:xfrm>
            <a:off x="380880" y="1824120"/>
            <a:ext cx="8382240" cy="472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Treatment of Loc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to follow and work or imprison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pse of Local Econom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farmers and Merchants put out of Business by Europ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d Relig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political leaders ki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Transportation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lroad created to help move go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grow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ans brought m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standard of liv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Medicines increase Health of 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of Nationalism inside colon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ed Govern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ite Man’s Burde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 the meaning of each stanza and write it alongs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se questions after you are done re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overall message of the po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is was receiv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ill this impact the treatment of non-Wester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reation of Poe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man’s bur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by Kipling in England to Amer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762120"/>
            <a:ext cx="7391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up the White Man's burden-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atience to abid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veil the threat of terr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check the show of pri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open speech and simpl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hundred times made plai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eek another's prof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ork another's ga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Questions/promp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6854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e three leaders of the Scientific Rev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developed the first written langu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Brewers called before this na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exact date of WW2’s st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nvented the printing pr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opic of the first chapter in the textboo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as the last Queen of Hawai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resident was shot in 1963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on the World Cup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ree Tom Cruise mov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SOAPS stan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strument does Mr. Kuenzi pl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Darwin and the “Burden”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60195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author’s poi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http://rds.yahoo.com/_ylt=A9ibyGZDtDZGOZwAI46jzbkF;_ylu=X3oDMTBsMW5yM3VoBHNlYwNwcm9mBHZ0aWQDSTA2Nl84OA--/SIG=13tigmh6t/EXP=1178076611/**http%3A/www.history.ucsb.edu/faculty/marcuse/classes/2c/images/1899WhiteMansBurden$Detroit200dpi300pxw.jpg"/>
          <p:cNvPicPr/>
          <p:nvPr/>
        </p:nvPicPr>
        <p:blipFill>
          <a:blip r:embed="rId1"/>
          <a:stretch/>
        </p:blipFill>
        <p:spPr>
          <a:xfrm>
            <a:off x="68580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1760" y="5791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essage of this carto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http://rds.yahoo.com/_ylt=A9iby4B8tDZGAaUABVmjzbkF;_ylu=X3oDMTBsMW5yM3VoBHNlYwNwcm9mBHZ0aWQDSTA2Nl84OA--/SIG=12ec4k6s5/EXP=1178076668/**http%3A/www.ocf.berkeley.edu/~trisha/contemp/pics/civil.jpg"/>
          <p:cNvPicPr/>
          <p:nvPr/>
        </p:nvPicPr>
        <p:blipFill>
          <a:blip r:embed="rId1"/>
          <a:stretch/>
        </p:blipFill>
        <p:spPr>
          <a:xfrm>
            <a:off x="0" y="0"/>
            <a:ext cx="9136080" cy="579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hina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d no interest in European go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 to keep to their traditional 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d Trade 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had little to o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ium from India brought to Chi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became unproductive and quality of life declin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banned its use and tra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did not lis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Opium War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ese confiscate and burn large sh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brings war boats and attac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Treaty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demanded the opening of China and free trade r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had no choice but to ag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will hold on to land rights in Hong Kong until 1997 (150 year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xer Rebellion against w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Japa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pt strict Feudal laws during 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s contact with the U.S. opened their eyes to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ive Industrialization and Technology spread throughout Jap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pt many of the Feudal ideas and herit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an Imperializing China and Ko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Movi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94" name="SmartArt Placeholder 10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5" name="Oval 26"/>
          <p:cNvSpPr/>
          <p:nvPr/>
        </p:nvSpPr>
        <p:spPr>
          <a:xfrm>
            <a:off x="152280" y="1143000"/>
            <a:ext cx="4876920" cy="4648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heres of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s to regain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7"/>
          <p:cNvSpPr/>
          <p:nvPr/>
        </p:nvSpPr>
        <p:spPr>
          <a:xfrm>
            <a:off x="4114800" y="1143000"/>
            <a:ext cx="5029200" cy="4648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its 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tary and Econom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izes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Empire of its 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4327560" y="323676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3809880" y="2514600"/>
            <a:ext cx="160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stablish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likes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2136600" y="58672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6099120" y="5867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how that you know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a blank sheet of paper; write two diary entries (at least four senten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one as a Boxer in Chi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the other as a Japanese teenager witnessing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86800" y="-4261320"/>
            <a:ext cx="460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04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wo Lady Gaga song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han Hale served in what wa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types of c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square root of 16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Adam Sandler mov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shot Abraham Lincol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what continent can I find the country of Swazilan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 the pattern: 1, 5, 15, 30, 60, 120, 240 _____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Renaissance mea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x9+9= _____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a character from the show, The Off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on last years World Seri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and was Kurt Cobain i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it mean when you get a “turkey” in bowli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what continent are the Andes Mountain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rote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 Gats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NATO stand fo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best selling album of all ti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types/brands of cere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a mupp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at = Huh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you pick the people of groups you cho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this game was like imperial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they are differ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(should have been) the strategy in the ga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begins to happen as the game continues on?  Is that accurate? Exampl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http://rds.yahoo.com/_ylt=A9iby4fwtDZGQmYAVVejzbkF;_ylu=X3oDMTBsMW5yM3VoBHNlYwNwcm9mBHZ0aWQDSTA2Nl84OA--/SIG=128h7faop/EXP=1178076784/**http%3A/www.hyperhelper.org/williams/imperialism2.jpg"/>
          <p:cNvPicPr/>
          <p:nvPr/>
        </p:nvPicPr>
        <p:blipFill>
          <a:blip r:embed="rId1"/>
          <a:stretch/>
        </p:blipFill>
        <p:spPr>
          <a:xfrm>
            <a:off x="685800" y="1752480"/>
            <a:ext cx="6684840" cy="368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at is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mperialism</a:t>
            </a: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domineering nation takes over another country politically, economically, and its military.  The dominated country becomes a colony to the imperial n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s behind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7621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emands/Raw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xury Goods/diamonds,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markets for Industrial go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sion, military m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 strategic lo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9960" y="6095880"/>
            <a:ext cx="2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s. . .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1143000"/>
            <a:ext cx="6096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: Racial Suprem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e the lives of natives (White Man’s Burd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us/Humanitari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hristians feel it is their calling to convert natives to the fa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id bring education and medicine to struggling reg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the natural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ms of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y: internal govt. lead by a foreign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orate: internal govt. lead by locals but under the control of a foreign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here of Influence: foreign power claims exclusive investment and trade 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mperialism: a business controls an underdeveloped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1:57:18Z</dcterms:created>
  <dc:creator>Robert Kuenzi</dc:creator>
  <dc:description/>
  <dc:language>en-US</dc:language>
  <cp:lastModifiedBy>Kuenzi</cp:lastModifiedBy>
  <dcterms:modified xsi:type="dcterms:W3CDTF">2014-04-10T18:17:52Z</dcterms:modified>
  <cp:revision>78</cp:revision>
  <dc:subject/>
  <dc:title>Imperialism</dc:title>
</cp:coreProperties>
</file>